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jpeg" ContentType="image/jpeg"/>
  <Override PartName="/ppt/media/Jeopardy.wav" ContentType="audio/x-wav"/>
  <Override PartName="/ppt/media/jep3.wav" ContentType="audio/x-wav"/>
  <Override PartName="/ppt/media/image13.jpeg" ContentType="image/jpeg"/>
  <Override PartName="/ppt/media/image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2F8A-F2A1-49BF-B5BC-5B84D87D81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1F332-2C7F-4DE4-956F-13FC32878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14F71-BCB5-449C-BB36-2B65EA908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43402-A4BF-487F-8B47-EF3BF4C38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D9524-B113-4950-AAF2-13E5C61E8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102B-A5A2-47B2-9FA1-B350D1768E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267C-633B-4B8A-A2A5-2AA624987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D77B-97EC-4148-A788-80DA034A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2602-0C13-4EC5-9203-DFB88B76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9EF4-2FD6-4847-B10F-E304E904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65F-13BD-4472-9149-1B8638AF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8771-012D-40C2-A868-8DA4F1ACC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9B64-EA13-4585-8E1D-2DBF970FB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CDD0-1D49-407E-8EBC-124B9781F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450C-8D37-4F3D-9DCB-03A27E56E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78648-D1A0-4879-A33A-4A01EFAAA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CB6D-BE4A-49B3-8A13-A0DBE0A1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60D1-514C-4B9E-A902-9AF8AEA0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B5ACE-C120-44EB-9E9F-198BFEB2F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7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8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7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23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28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33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8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1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19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2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29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3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Jeopardy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42"/>
          <p:cNvSpPr txBox="1"/>
          <p:nvPr/>
        </p:nvSpPr>
        <p:spPr>
          <a:xfrm>
            <a:off x="1981080" y="914400"/>
            <a:ext cx="54864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tention 3rd Grade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thematicians.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1" name="AutoShape 4">
            <a:hlinkClick r:id="rId2" action="ppaction://hlinksldjump"/>
          </p:cNvPr>
          <p:cNvSpPr/>
          <p:nvPr/>
        </p:nvSpPr>
        <p:spPr>
          <a:xfrm>
            <a:off x="6400800" y="472428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rcRect l="0" t="36169" r="0" b="41243"/>
          <a:stretch/>
        </p:blipFill>
        <p:spPr>
          <a:xfrm>
            <a:off x="1143000" y="3124080"/>
            <a:ext cx="693432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4"/>
          <a:stretch/>
        </p:blipFill>
        <p:spPr>
          <a:xfrm>
            <a:off x="5867280" y="342900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6" name="AutoShape 4">
            <a:hlinkClick r:id="rId2" action="ppaction://hlinksldjump"/>
          </p:cNvPr>
          <p:cNvSpPr/>
          <p:nvPr/>
        </p:nvSpPr>
        <p:spPr>
          <a:xfrm>
            <a:off x="6172200" y="472428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3"/>
          <a:srcRect l="0" t="56784" r="0" b="20628"/>
          <a:stretch/>
        </p:blipFill>
        <p:spPr>
          <a:xfrm>
            <a:off x="990720" y="3200400"/>
            <a:ext cx="7315200" cy="76212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4"/>
          <a:stretch/>
        </p:blipFill>
        <p:spPr>
          <a:xfrm>
            <a:off x="7572240" y="345744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AutoShape 4">
            <a:hlinkClick r:id="rId2" action="ppaction://hlinksldjump"/>
          </p:cNvPr>
          <p:cNvSpPr/>
          <p:nvPr/>
        </p:nvSpPr>
        <p:spPr>
          <a:xfrm>
            <a:off x="6858000" y="52578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3"/>
          <a:srcRect l="2130" t="369" r="47228" b="70086"/>
          <a:stretch/>
        </p:blipFill>
        <p:spPr>
          <a:xfrm>
            <a:off x="838080" y="3124080"/>
            <a:ext cx="6248520" cy="190512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4"/>
          <a:stretch/>
        </p:blipFill>
        <p:spPr>
          <a:xfrm>
            <a:off x="3048120" y="3581280"/>
            <a:ext cx="42840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6" name="AutoShape 4">
            <a:hlinkClick r:id="rId2" action="ppaction://hlinksldjump"/>
          </p:cNvPr>
          <p:cNvSpPr/>
          <p:nvPr/>
        </p:nvSpPr>
        <p:spPr>
          <a:xfrm>
            <a:off x="6553080" y="4648320"/>
            <a:ext cx="1600200" cy="1218960"/>
          </a:xfrm>
          <a:custGeom>
            <a:avLst/>
            <a:gdLst>
              <a:gd name="textAreaLeft" fmla="*/ 78840 w 1600200"/>
              <a:gd name="textAreaRight" fmla="*/ 1521360 w 1600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8354" h="21600">
                <a:moveTo>
                  <a:pt x="0" y="0"/>
                </a:moveTo>
                <a:lnTo>
                  <a:pt x="28354" y="0"/>
                </a:lnTo>
                <a:lnTo>
                  <a:pt x="28354" y="21600"/>
                </a:lnTo>
                <a:lnTo>
                  <a:pt x="0" y="21600"/>
                </a:lnTo>
                <a:close/>
              </a:path>
              <a:path fill="lightenLess" w="28354" h="21600">
                <a:moveTo>
                  <a:pt x="0" y="0"/>
                </a:moveTo>
                <a:lnTo>
                  <a:pt x="28354" y="0"/>
                </a:lnTo>
                <a:lnTo>
                  <a:pt x="26954" y="1400"/>
                </a:lnTo>
                <a:lnTo>
                  <a:pt x="1400" y="1400"/>
                </a:lnTo>
                <a:close/>
              </a:path>
              <a:path fill="darken" w="28354" h="21600">
                <a:moveTo>
                  <a:pt x="28354" y="0"/>
                </a:moveTo>
                <a:lnTo>
                  <a:pt x="28354" y="21600"/>
                </a:lnTo>
                <a:lnTo>
                  <a:pt x="26954" y="20200"/>
                </a:lnTo>
                <a:lnTo>
                  <a:pt x="26954" y="1400"/>
                </a:lnTo>
                <a:close/>
              </a:path>
              <a:path fill="darkenLess" w="28354" h="21600">
                <a:moveTo>
                  <a:pt x="28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54" y="20200"/>
                </a:lnTo>
                <a:close/>
              </a:path>
              <a:path fill="lighten" w="28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54" h="21600">
                <a:moveTo>
                  <a:pt x="7170" y="10800"/>
                </a:moveTo>
                <a:lnTo>
                  <a:pt x="21183" y="3794"/>
                </a:lnTo>
                <a:lnTo>
                  <a:pt x="2118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3"/>
          <a:srcRect l="2273" t="59691" r="0" b="0"/>
          <a:stretch/>
        </p:blipFill>
        <p:spPr>
          <a:xfrm>
            <a:off x="1219320" y="3352680"/>
            <a:ext cx="6556320" cy="11844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4"/>
          <a:stretch/>
        </p:blipFill>
        <p:spPr>
          <a:xfrm>
            <a:off x="5867280" y="388620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ne fourth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1" name="AutoShape 4">
            <a:hlinkClick r:id="rId2" action="ppaction://hlinksldjump"/>
          </p:cNvPr>
          <p:cNvSpPr/>
          <p:nvPr/>
        </p:nvSpPr>
        <p:spPr>
          <a:xfrm>
            <a:off x="6553080" y="472428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ree fifths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4" name="AutoShape 4">
            <a:hlinkClick r:id="rId2" action="ppaction://hlinksldjump"/>
          </p:cNvPr>
          <p:cNvSpPr/>
          <p:nvPr/>
        </p:nvSpPr>
        <p:spPr>
          <a:xfrm>
            <a:off x="6553080" y="487692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ne half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7" name="AutoShape 4">
            <a:hlinkClick r:id="rId2" action="ppaction://hlinksldjump"/>
          </p:cNvPr>
          <p:cNvSpPr/>
          <p:nvPr/>
        </p:nvSpPr>
        <p:spPr>
          <a:xfrm>
            <a:off x="6781680" y="5029200"/>
            <a:ext cx="1524240" cy="121932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9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1" lang="en-US" sz="9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1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1" lang="en-US" sz="9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3" name="AutoShape 7">
            <a:hlinkClick r:id="rId2" action="ppaction://hlinksldjump"/>
          </p:cNvPr>
          <p:cNvSpPr/>
          <p:nvPr/>
        </p:nvSpPr>
        <p:spPr>
          <a:xfrm>
            <a:off x="6705720" y="50292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5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5" y="20200"/>
                </a:lnTo>
                <a:lnTo>
                  <a:pt x="27395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5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5" h="21600">
                <a:moveTo>
                  <a:pt x="7391" y="3794"/>
                </a:moveTo>
                <a:lnTo>
                  <a:pt x="21404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ne whole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ing fifths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6" name="AutoShape 4">
            <a:hlinkClick r:id="rId2" action="ppaction://hlinksldjump"/>
          </p:cNvPr>
          <p:cNvSpPr/>
          <p:nvPr/>
        </p:nvSpPr>
        <p:spPr>
          <a:xfrm>
            <a:off x="6629400" y="5105520"/>
            <a:ext cx="1523880" cy="1447560"/>
          </a:xfrm>
          <a:custGeom>
            <a:avLst/>
            <a:gdLst>
              <a:gd name="textAreaLeft" fmla="*/ 93600 w 1523880"/>
              <a:gd name="textAreaRight" fmla="*/ 1430280 w 15238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39" h="21600">
                <a:moveTo>
                  <a:pt x="0" y="0"/>
                </a:moveTo>
                <a:lnTo>
                  <a:pt x="22739" y="0"/>
                </a:lnTo>
                <a:lnTo>
                  <a:pt x="22739" y="21600"/>
                </a:lnTo>
                <a:lnTo>
                  <a:pt x="0" y="21600"/>
                </a:lnTo>
                <a:close/>
              </a:path>
              <a:path fill="lightenLess" w="22739" h="21600">
                <a:moveTo>
                  <a:pt x="0" y="0"/>
                </a:moveTo>
                <a:lnTo>
                  <a:pt x="22739" y="0"/>
                </a:lnTo>
                <a:lnTo>
                  <a:pt x="21339" y="1400"/>
                </a:lnTo>
                <a:lnTo>
                  <a:pt x="1400" y="1400"/>
                </a:lnTo>
                <a:close/>
              </a:path>
              <a:path fill="darken" w="22739" h="21600">
                <a:moveTo>
                  <a:pt x="22739" y="0"/>
                </a:moveTo>
                <a:lnTo>
                  <a:pt x="22739" y="21600"/>
                </a:lnTo>
                <a:lnTo>
                  <a:pt x="21339" y="20200"/>
                </a:lnTo>
                <a:lnTo>
                  <a:pt x="21339" y="1400"/>
                </a:lnTo>
                <a:close/>
              </a:path>
              <a:path fill="darkenLess" w="22739" h="21600">
                <a:moveTo>
                  <a:pt x="22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9" y="20200"/>
                </a:lnTo>
                <a:close/>
              </a:path>
              <a:path fill="lighten" w="22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9" h="21600">
                <a:moveTo>
                  <a:pt x="4363" y="10800"/>
                </a:moveTo>
                <a:lnTo>
                  <a:pt x="18376" y="3794"/>
                </a:lnTo>
                <a:lnTo>
                  <a:pt x="1837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9" name="Text Box 24"/>
          <p:cNvSpPr/>
          <p:nvPr/>
        </p:nvSpPr>
        <p:spPr>
          <a:xfrm>
            <a:off x="1523880" y="243828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Eight eights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AutoShape 25">
            <a:hlinkClick r:id="rId2" action="ppaction://hlinksldjump"/>
          </p:cNvPr>
          <p:cNvSpPr/>
          <p:nvPr/>
        </p:nvSpPr>
        <p:spPr>
          <a:xfrm>
            <a:off x="6629400" y="52578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10800"/>
                </a:moveTo>
                <a:lnTo>
                  <a:pt x="19079" y="3794"/>
                </a:lnTo>
                <a:lnTo>
                  <a:pt x="19079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3" name="AutoShape 4">
            <a:hlinkClick r:id="rId2" action="ppaction://hlinksldjump"/>
          </p:cNvPr>
          <p:cNvSpPr/>
          <p:nvPr/>
        </p:nvSpPr>
        <p:spPr>
          <a:xfrm>
            <a:off x="6172200" y="4952880"/>
            <a:ext cx="1447920" cy="106704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8" h="21600">
                <a:moveTo>
                  <a:pt x="0" y="0"/>
                </a:moveTo>
                <a:lnTo>
                  <a:pt x="29308" y="0"/>
                </a:lnTo>
                <a:lnTo>
                  <a:pt x="29308" y="21600"/>
                </a:lnTo>
                <a:lnTo>
                  <a:pt x="0" y="21600"/>
                </a:lnTo>
                <a:close/>
              </a:path>
              <a:path fill="lightenLess" w="29308" h="21600">
                <a:moveTo>
                  <a:pt x="0" y="0"/>
                </a:moveTo>
                <a:lnTo>
                  <a:pt x="29308" y="0"/>
                </a:lnTo>
                <a:lnTo>
                  <a:pt x="27908" y="1400"/>
                </a:lnTo>
                <a:lnTo>
                  <a:pt x="1400" y="1400"/>
                </a:lnTo>
                <a:close/>
              </a:path>
              <a:path fill="darken" w="29308" h="21600">
                <a:moveTo>
                  <a:pt x="29308" y="0"/>
                </a:moveTo>
                <a:lnTo>
                  <a:pt x="29308" y="21600"/>
                </a:lnTo>
                <a:lnTo>
                  <a:pt x="27908" y="20200"/>
                </a:lnTo>
                <a:lnTo>
                  <a:pt x="27908" y="1400"/>
                </a:lnTo>
                <a:close/>
              </a:path>
              <a:path fill="darkenLess" w="29308" h="21600">
                <a:moveTo>
                  <a:pt x="29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8" y="20200"/>
                </a:lnTo>
                <a:close/>
              </a:path>
              <a:path fill="lighten" w="29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8" h="21600">
                <a:moveTo>
                  <a:pt x="7647" y="10800"/>
                </a:moveTo>
                <a:lnTo>
                  <a:pt x="21660" y="3794"/>
                </a:lnTo>
                <a:lnTo>
                  <a:pt x="2166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4" name="AutoShape 12"/>
          <p:cNvSpPr/>
          <p:nvPr/>
        </p:nvSpPr>
        <p:spPr>
          <a:xfrm>
            <a:off x="3276720" y="3352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5" name="AutoShape 13"/>
          <p:cNvSpPr/>
          <p:nvPr/>
        </p:nvSpPr>
        <p:spPr>
          <a:xfrm>
            <a:off x="365760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6" name="AutoShape 14"/>
          <p:cNvSpPr/>
          <p:nvPr/>
        </p:nvSpPr>
        <p:spPr>
          <a:xfrm>
            <a:off x="403848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AutoShape 15"/>
          <p:cNvSpPr/>
          <p:nvPr/>
        </p:nvSpPr>
        <p:spPr>
          <a:xfrm>
            <a:off x="4419720" y="33526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8" name="AutoShape 16"/>
          <p:cNvSpPr/>
          <p:nvPr/>
        </p:nvSpPr>
        <p:spPr>
          <a:xfrm>
            <a:off x="480060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9" name="AutoShape 17"/>
          <p:cNvSpPr/>
          <p:nvPr/>
        </p:nvSpPr>
        <p:spPr>
          <a:xfrm>
            <a:off x="5257800" y="335268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2" name="AutoShape 4">
            <a:hlinkClick r:id="rId2" action="ppaction://hlinksldjump"/>
          </p:cNvPr>
          <p:cNvSpPr/>
          <p:nvPr/>
        </p:nvSpPr>
        <p:spPr>
          <a:xfrm>
            <a:off x="6400800" y="4648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5413" y="10800"/>
                </a:moveTo>
                <a:lnTo>
                  <a:pt x="19426" y="3794"/>
                </a:lnTo>
                <a:lnTo>
                  <a:pt x="1942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657600" y="3886200"/>
            <a:ext cx="1886040" cy="189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6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828800" cy="1447920"/>
          </a:xfrm>
          <a:custGeom>
            <a:avLst/>
            <a:gdLst>
              <a:gd name="textAreaLeft" fmla="*/ 93600 w 1828800"/>
              <a:gd name="textAreaRight" fmla="*/ 1735200 w 18288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7281" h="21600">
                <a:moveTo>
                  <a:pt x="0" y="0"/>
                </a:moveTo>
                <a:lnTo>
                  <a:pt x="27281" y="0"/>
                </a:lnTo>
                <a:lnTo>
                  <a:pt x="27281" y="21600"/>
                </a:lnTo>
                <a:lnTo>
                  <a:pt x="0" y="21600"/>
                </a:lnTo>
                <a:close/>
              </a:path>
              <a:path fill="lightenLess" w="27281" h="21600">
                <a:moveTo>
                  <a:pt x="0" y="0"/>
                </a:moveTo>
                <a:lnTo>
                  <a:pt x="27281" y="0"/>
                </a:lnTo>
                <a:lnTo>
                  <a:pt x="25881" y="1400"/>
                </a:lnTo>
                <a:lnTo>
                  <a:pt x="1400" y="1400"/>
                </a:lnTo>
                <a:close/>
              </a:path>
              <a:path fill="darken" w="27281" h="21600">
                <a:moveTo>
                  <a:pt x="27281" y="0"/>
                </a:moveTo>
                <a:lnTo>
                  <a:pt x="27281" y="21600"/>
                </a:lnTo>
                <a:lnTo>
                  <a:pt x="25881" y="20200"/>
                </a:lnTo>
                <a:lnTo>
                  <a:pt x="25881" y="1400"/>
                </a:lnTo>
                <a:close/>
              </a:path>
              <a:path fill="darkenLess" w="27281" h="21600">
                <a:moveTo>
                  <a:pt x="27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1" y="20200"/>
                </a:lnTo>
                <a:close/>
              </a:path>
              <a:path fill="lighten" w="27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1" h="21600">
                <a:moveTo>
                  <a:pt x="6634" y="10800"/>
                </a:moveTo>
                <a:lnTo>
                  <a:pt x="20647" y="3794"/>
                </a:lnTo>
                <a:lnTo>
                  <a:pt x="2064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2666880" y="3581280"/>
            <a:ext cx="2822760" cy="25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0" name="AutoShape 4">
            <a:hlinkClick r:id="rId2" action="ppaction://hlinksldjump"/>
          </p:cNvPr>
          <p:cNvSpPr/>
          <p:nvPr/>
        </p:nvSpPr>
        <p:spPr>
          <a:xfrm>
            <a:off x="6172200" y="4724280"/>
            <a:ext cx="1523880" cy="129564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4" h="21600">
                <a:moveTo>
                  <a:pt x="5696" y="10800"/>
                </a:moveTo>
                <a:lnTo>
                  <a:pt x="19708" y="3794"/>
                </a:lnTo>
                <a:lnTo>
                  <a:pt x="19708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rcRect l="62443" t="24829" r="7602" b="32650"/>
          <a:stretch/>
        </p:blipFill>
        <p:spPr>
          <a:xfrm>
            <a:off x="2971800" y="3581280"/>
            <a:ext cx="1981080" cy="19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does this picture represent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14400" y="1828800"/>
            <a:ext cx="70866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5" name="AutoShape 5">
            <a:hlinkClick r:id="rId2" action="ppaction://hlinksldjump"/>
          </p:cNvPr>
          <p:cNvSpPr/>
          <p:nvPr/>
        </p:nvSpPr>
        <p:spPr>
          <a:xfrm>
            <a:off x="6553080" y="495288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3"/>
          <a:srcRect l="34110" t="8635" r="33333" b="61157"/>
          <a:stretch/>
        </p:blipFill>
        <p:spPr>
          <a:xfrm>
            <a:off x="2895480" y="2819520"/>
            <a:ext cx="2819520" cy="281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e 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&g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&l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o show the relationship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between these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/5 , 1/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9" name="AutoShape 4">
            <a:hlinkClick r:id="rId2" action="ppaction://hlinksldjump"/>
          </p:cNvPr>
          <p:cNvSpPr/>
          <p:nvPr/>
        </p:nvSpPr>
        <p:spPr>
          <a:xfrm>
            <a:off x="6629400" y="5105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Rectangle 2">
            <a:hlinkClick r:id="rId2" action="ppaction://hlinksldjump"/>
          </p:cNvPr>
          <p:cNvSpPr/>
          <p:nvPr/>
        </p:nvSpPr>
        <p:spPr>
          <a:xfrm>
            <a:off x="15228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e 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&g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&l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o show the relationship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between these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5/6 , 3/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3" name="AutoShape 5">
            <a:hlinkClick r:id="rId3" action="ppaction://hlinksldjump"/>
          </p:cNvPr>
          <p:cNvSpPr/>
          <p:nvPr/>
        </p:nvSpPr>
        <p:spPr>
          <a:xfrm>
            <a:off x="6248520" y="5105520"/>
            <a:ext cx="1828800" cy="1447560"/>
          </a:xfrm>
          <a:custGeom>
            <a:avLst/>
            <a:gdLst>
              <a:gd name="textAreaLeft" fmla="*/ 93600 w 1828800"/>
              <a:gd name="textAreaRight" fmla="*/ 1735200 w 182880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7287" h="21600">
                <a:moveTo>
                  <a:pt x="0" y="0"/>
                </a:moveTo>
                <a:lnTo>
                  <a:pt x="27287" y="0"/>
                </a:lnTo>
                <a:lnTo>
                  <a:pt x="27287" y="21600"/>
                </a:lnTo>
                <a:lnTo>
                  <a:pt x="0" y="21600"/>
                </a:lnTo>
                <a:close/>
              </a:path>
              <a:path fill="lightenLess" w="27287" h="21600">
                <a:moveTo>
                  <a:pt x="0" y="0"/>
                </a:moveTo>
                <a:lnTo>
                  <a:pt x="27287" y="0"/>
                </a:lnTo>
                <a:lnTo>
                  <a:pt x="25887" y="1400"/>
                </a:lnTo>
                <a:lnTo>
                  <a:pt x="1400" y="1400"/>
                </a:lnTo>
                <a:close/>
              </a:path>
              <a:path fill="darken" w="27287" h="21600">
                <a:moveTo>
                  <a:pt x="27287" y="0"/>
                </a:moveTo>
                <a:lnTo>
                  <a:pt x="27287" y="21600"/>
                </a:lnTo>
                <a:lnTo>
                  <a:pt x="25887" y="20200"/>
                </a:lnTo>
                <a:lnTo>
                  <a:pt x="25887" y="1400"/>
                </a:lnTo>
                <a:close/>
              </a:path>
              <a:path fill="darkenLess" w="27287" h="21600">
                <a:moveTo>
                  <a:pt x="27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7" y="20200"/>
                </a:lnTo>
                <a:close/>
              </a:path>
              <a:path fill="lighten" w="27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7" h="21600">
                <a:moveTo>
                  <a:pt x="6637" y="10800"/>
                </a:moveTo>
                <a:lnTo>
                  <a:pt x="20650" y="3794"/>
                </a:lnTo>
                <a:lnTo>
                  <a:pt x="2065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/12 , 2/3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6" name="Rectangle 4"/>
          <p:cNvSpPr/>
          <p:nvPr/>
        </p:nvSpPr>
        <p:spPr>
          <a:xfrm>
            <a:off x="2286000" y="18892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AutoShape 5">
            <a:hlinkClick r:id="rId2" action="ppaction://hlinksldjump"/>
          </p:cNvPr>
          <p:cNvSpPr/>
          <p:nvPr/>
        </p:nvSpPr>
        <p:spPr>
          <a:xfrm>
            <a:off x="6172200" y="50292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5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/4 , 2/5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0" name="AutoShape 4">
            <a:hlinkClick r:id="rId2" action="ppaction://hlinksldjump"/>
          </p:cNvPr>
          <p:cNvSpPr/>
          <p:nvPr/>
        </p:nvSpPr>
        <p:spPr>
          <a:xfrm>
            <a:off x="6172200" y="4952880"/>
            <a:ext cx="1752480" cy="1219320"/>
          </a:xfrm>
          <a:custGeom>
            <a:avLst/>
            <a:gdLst>
              <a:gd name="textAreaLeft" fmla="*/ 78840 w 1752480"/>
              <a:gd name="textAreaRight" fmla="*/ 1673640 w 1752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2" h="21600">
                <a:moveTo>
                  <a:pt x="0" y="0"/>
                </a:moveTo>
                <a:lnTo>
                  <a:pt x="31042" y="0"/>
                </a:lnTo>
                <a:lnTo>
                  <a:pt x="31042" y="21600"/>
                </a:lnTo>
                <a:lnTo>
                  <a:pt x="0" y="21600"/>
                </a:lnTo>
                <a:close/>
              </a:path>
              <a:path fill="lightenLess" w="31042" h="21600">
                <a:moveTo>
                  <a:pt x="0" y="0"/>
                </a:moveTo>
                <a:lnTo>
                  <a:pt x="31042" y="0"/>
                </a:lnTo>
                <a:lnTo>
                  <a:pt x="29642" y="1400"/>
                </a:lnTo>
                <a:lnTo>
                  <a:pt x="1400" y="1400"/>
                </a:lnTo>
                <a:close/>
              </a:path>
              <a:path fill="darken" w="31042" h="21600">
                <a:moveTo>
                  <a:pt x="31042" y="0"/>
                </a:moveTo>
                <a:lnTo>
                  <a:pt x="31042" y="21600"/>
                </a:lnTo>
                <a:lnTo>
                  <a:pt x="29642" y="20200"/>
                </a:lnTo>
                <a:lnTo>
                  <a:pt x="29642" y="1400"/>
                </a:lnTo>
                <a:close/>
              </a:path>
              <a:path fill="darkenLess" w="31042" h="21600">
                <a:moveTo>
                  <a:pt x="31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2" y="20200"/>
                </a:lnTo>
                <a:close/>
              </a:path>
              <a:path fill="lighten" w="31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42" h="21600">
                <a:moveTo>
                  <a:pt x="8515" y="10800"/>
                </a:moveTo>
                <a:lnTo>
                  <a:pt x="22527" y="3794"/>
                </a:lnTo>
                <a:lnTo>
                  <a:pt x="2252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/12 , 3/4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3" name="AutoShape 4">
            <a:hlinkClick r:id="rId2" action="ppaction://hlinksldjump"/>
          </p:cNvPr>
          <p:cNvSpPr/>
          <p:nvPr/>
        </p:nvSpPr>
        <p:spPr>
          <a:xfrm>
            <a:off x="63244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0092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54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57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0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3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6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9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2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5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8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1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4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7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0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3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6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9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2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8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1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4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7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0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3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6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9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2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5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8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41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quivalent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action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umber Line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rite the Fraction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action Picture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eater,  Less or =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Text Box 210"/>
          <p:cNvSpPr/>
          <p:nvPr/>
        </p:nvSpPr>
        <p:spPr>
          <a:xfrm>
            <a:off x="7696080" y="9144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LD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RD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54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6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6" name="AutoShape 4"/>
          <p:cNvSpPr/>
          <p:nvPr/>
        </p:nvSpPr>
        <p:spPr>
          <a:xfrm>
            <a:off x="6553080" y="4952880"/>
            <a:ext cx="1676520" cy="106704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3933" h="21600">
                <a:moveTo>
                  <a:pt x="0" y="0"/>
                </a:moveTo>
                <a:lnTo>
                  <a:pt x="33933" y="0"/>
                </a:lnTo>
                <a:lnTo>
                  <a:pt x="33933" y="21600"/>
                </a:lnTo>
                <a:lnTo>
                  <a:pt x="0" y="21600"/>
                </a:lnTo>
                <a:close/>
              </a:path>
              <a:path fill="lightenLess" w="33933" h="21600">
                <a:moveTo>
                  <a:pt x="0" y="0"/>
                </a:moveTo>
                <a:lnTo>
                  <a:pt x="33933" y="0"/>
                </a:lnTo>
                <a:lnTo>
                  <a:pt x="32533" y="1400"/>
                </a:lnTo>
                <a:lnTo>
                  <a:pt x="1400" y="1400"/>
                </a:lnTo>
                <a:close/>
              </a:path>
              <a:path fill="darken" w="33933" h="21600">
                <a:moveTo>
                  <a:pt x="33933" y="0"/>
                </a:moveTo>
                <a:lnTo>
                  <a:pt x="33933" y="21600"/>
                </a:lnTo>
                <a:lnTo>
                  <a:pt x="32533" y="20200"/>
                </a:lnTo>
                <a:lnTo>
                  <a:pt x="32533" y="1400"/>
                </a:lnTo>
                <a:close/>
              </a:path>
              <a:path fill="darkenLess" w="33933" h="21600">
                <a:moveTo>
                  <a:pt x="3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3" y="20200"/>
                </a:lnTo>
                <a:close/>
              </a:path>
              <a:path fill="lighten" w="3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3" h="21600">
                <a:moveTo>
                  <a:pt x="9960" y="10800"/>
                </a:moveTo>
                <a:lnTo>
                  <a:pt x="23973" y="3794"/>
                </a:lnTo>
                <a:lnTo>
                  <a:pt x="2397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7" name=""/>
          <p:cNvSpPr/>
          <p:nvPr/>
        </p:nvSpPr>
        <p:spPr>
          <a:xfrm>
            <a:off x="2918880" y="2362320"/>
            <a:ext cx="4008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rite this fraction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wo thirds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can you say about 8/8 and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ne whole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7391520" y="53341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10800"/>
                </a:moveTo>
                <a:lnTo>
                  <a:pt x="22434" y="3794"/>
                </a:lnTo>
                <a:lnTo>
                  <a:pt x="2243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6553080" y="45720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56" h="21600">
                <a:moveTo>
                  <a:pt x="6971" y="10800"/>
                </a:moveTo>
                <a:lnTo>
                  <a:pt x="20984" y="3794"/>
                </a:lnTo>
                <a:lnTo>
                  <a:pt x="2098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rcRect l="66616" t="47842" r="0" b="12161"/>
          <a:stretch/>
        </p:blipFill>
        <p:spPr>
          <a:xfrm>
            <a:off x="3505320" y="2819520"/>
            <a:ext cx="2909880" cy="281916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1036440" y="1066680"/>
            <a:ext cx="714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f Sally ate two slices of this pizza,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fraction would be left over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number is on the number line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AutoShape 4"/>
          <p:cNvSpPr/>
          <p:nvPr/>
        </p:nvSpPr>
        <p:spPr>
          <a:xfrm>
            <a:off x="6477120" y="46483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4992" y="10800"/>
                </a:moveTo>
                <a:lnTo>
                  <a:pt x="19005" y="3794"/>
                </a:lnTo>
                <a:lnTo>
                  <a:pt x="190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rcRect l="0" t="0" r="0" b="52603"/>
          <a:stretch/>
        </p:blipFill>
        <p:spPr>
          <a:xfrm>
            <a:off x="1066680" y="3429000"/>
            <a:ext cx="6708960" cy="1392120"/>
          </a:xfrm>
          <a:prstGeom prst="rect">
            <a:avLst/>
          </a:prstGeom>
          <a:ln w="0">
            <a:noFill/>
          </a:ln>
        </p:spPr>
      </p:pic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743200" y="3962520"/>
            <a:ext cx="428760" cy="42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Create a number line on you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iteboard that shows sixths.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2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3" name="AutoShape 4"/>
          <p:cNvSpPr/>
          <p:nvPr/>
        </p:nvSpPr>
        <p:spPr>
          <a:xfrm>
            <a:off x="6400800" y="502920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6" name=""/>
          <p:cNvSpPr/>
          <p:nvPr/>
        </p:nvSpPr>
        <p:spPr>
          <a:xfrm>
            <a:off x="685080" y="1219320"/>
            <a:ext cx="7605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Your Mom is making a cake for you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cousin’s birthday party. If there are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0 people at the party and each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person gets one piece of cake, into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how many pieces does your Mom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need to cut the cake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1523880" y="1066680"/>
            <a:ext cx="5639040" cy="4229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2" name=""/>
          <p:cNvSpPr/>
          <p:nvPr/>
        </p:nvSpPr>
        <p:spPr>
          <a:xfrm>
            <a:off x="2801160" y="2590920"/>
            <a:ext cx="326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0 equal pieces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5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in these equivalent fraction: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3/5 = 6/x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46748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0" name="AutoShape 4">
            <a:hlinkClick r:id="rId2" action="ppaction://hlinksldjump"/>
          </p:cNvPr>
          <p:cNvSpPr/>
          <p:nvPr/>
        </p:nvSpPr>
        <p:spPr>
          <a:xfrm>
            <a:off x="6400800" y="51055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½=x/8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4" name="AutoShape 5">
            <a:hlinkClick r:id="rId2" action="ppaction://hlinksldjump"/>
          </p:cNvPr>
          <p:cNvSpPr/>
          <p:nvPr/>
        </p:nvSpPr>
        <p:spPr>
          <a:xfrm>
            <a:off x="6705720" y="4952880"/>
            <a:ext cx="1447560" cy="1371600"/>
          </a:xfrm>
          <a:custGeom>
            <a:avLst/>
            <a:gdLst>
              <a:gd name="textAreaLeft" fmla="*/ 88920 w 1447560"/>
              <a:gd name="textAreaRight" fmla="*/ 1358640 w 14475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2796" h="21600">
                <a:moveTo>
                  <a:pt x="0" y="0"/>
                </a:moveTo>
                <a:lnTo>
                  <a:pt x="22796" y="0"/>
                </a:lnTo>
                <a:lnTo>
                  <a:pt x="22796" y="21600"/>
                </a:lnTo>
                <a:lnTo>
                  <a:pt x="0" y="21600"/>
                </a:lnTo>
                <a:close/>
              </a:path>
              <a:path fill="lightenLess" w="22796" h="21600">
                <a:moveTo>
                  <a:pt x="0" y="0"/>
                </a:moveTo>
                <a:lnTo>
                  <a:pt x="22796" y="0"/>
                </a:lnTo>
                <a:lnTo>
                  <a:pt x="21396" y="1400"/>
                </a:lnTo>
                <a:lnTo>
                  <a:pt x="1400" y="1400"/>
                </a:lnTo>
                <a:close/>
              </a:path>
              <a:path fill="darken" w="22796" h="21600">
                <a:moveTo>
                  <a:pt x="22796" y="0"/>
                </a:moveTo>
                <a:lnTo>
                  <a:pt x="22796" y="21600"/>
                </a:lnTo>
                <a:lnTo>
                  <a:pt x="21396" y="20200"/>
                </a:lnTo>
                <a:lnTo>
                  <a:pt x="21396" y="1400"/>
                </a:lnTo>
                <a:close/>
              </a:path>
              <a:path fill="darkenLess" w="22796" h="21600">
                <a:moveTo>
                  <a:pt x="22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6" y="20200"/>
                </a:lnTo>
                <a:close/>
              </a:path>
              <a:path fill="lighten" w="22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96" h="21600">
                <a:moveTo>
                  <a:pt x="4391" y="10800"/>
                </a:moveTo>
                <a:lnTo>
                  <a:pt x="18404" y="3794"/>
                </a:lnTo>
                <a:lnTo>
                  <a:pt x="1840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20/30 = 2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7" name="AutoShape 4">
            <a:hlinkClick r:id="rId2" action="ppaction://hlinksldjump"/>
          </p:cNvPr>
          <p:cNvSpPr/>
          <p:nvPr/>
        </p:nvSpPr>
        <p:spPr>
          <a:xfrm>
            <a:off x="6781680" y="5029200"/>
            <a:ext cx="1371600" cy="121932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7" h="21600">
                <a:moveTo>
                  <a:pt x="5142" y="10800"/>
                </a:moveTo>
                <a:lnTo>
                  <a:pt x="19155" y="3794"/>
                </a:lnTo>
                <a:lnTo>
                  <a:pt x="1915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3/6=1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AutoShape 4">
            <a:hlinkClick r:id="rId2" action="ppaction://hlinksldjump"/>
          </p:cNvPr>
          <p:cNvSpPr/>
          <p:nvPr/>
        </p:nvSpPr>
        <p:spPr>
          <a:xfrm>
            <a:off x="6477120" y="502920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5593" y="10800"/>
                </a:moveTo>
                <a:lnTo>
                  <a:pt x="19606" y="3794"/>
                </a:lnTo>
                <a:lnTo>
                  <a:pt x="196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/8=1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3" name="AutoShape 4">
            <a:hlinkClick r:id="rId2" action="ppaction://hlinksldjump"/>
          </p:cNvPr>
          <p:cNvSpPr/>
          <p:nvPr/>
        </p:nvSpPr>
        <p:spPr>
          <a:xfrm>
            <a:off x="6248520" y="487692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6191" y="10800"/>
                </a:moveTo>
                <a:lnTo>
                  <a:pt x="20204" y="3794"/>
                </a:lnTo>
                <a:lnTo>
                  <a:pt x="2020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Fraction on the number line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6" name="AutoShape 4">
            <a:hlinkClick r:id="rId2" action="ppaction://hlinksldjump"/>
          </p:cNvPr>
          <p:cNvSpPr/>
          <p:nvPr/>
        </p:nvSpPr>
        <p:spPr>
          <a:xfrm>
            <a:off x="6477120" y="449568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4992" y="10800"/>
                </a:moveTo>
                <a:lnTo>
                  <a:pt x="19005" y="3794"/>
                </a:lnTo>
                <a:lnTo>
                  <a:pt x="190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rcRect l="0" t="13555" r="0" b="61589"/>
          <a:stretch/>
        </p:blipFill>
        <p:spPr>
          <a:xfrm>
            <a:off x="1523880" y="3429000"/>
            <a:ext cx="4572000" cy="83808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3581280" y="3809880"/>
            <a:ext cx="428760" cy="4287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cpore</cp:lastModifiedBy>
  <dcterms:modified xsi:type="dcterms:W3CDTF">2014-03-13T14:57:17Z</dcterms:modified>
  <cp:revision>75</cp:revision>
  <dc:subject/>
  <dc:title>No Slide Title</dc:title>
</cp:coreProperties>
</file>